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30F68-59E3-47B4-8C6B-08379AF75B2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conflicts with the previous slide - it says that members choose to participate - this one states all must particip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4BD5-8F6D-45AD-AB2A-1150E66D3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EE08-F56F-4934-ADE1-4100669D4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BABD-6D37-43DF-8992-E06D1A14B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8A43-66EA-4102-9475-3556DB49E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B78CE-AE61-47CD-A2E4-139B34010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7735B-F19B-443E-845F-30CD4DE49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A5352-1DBB-46E4-901A-CA2068D20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DCD1F-07CF-4E84-B6EB-BCF63C54A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DE932-446D-43ED-B34A-B97C02B98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2B27F-00A5-4630-B2C1-408786896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DE61B-03CA-4F69-9FAB-3E741115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27E2-2A54-4C08-A280-08A920949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20DBE-5345-4136-988F-072C3DE9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F07C1-6929-4A37-B5C5-B153E125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6CB1A-A705-4618-828F-A4B830D51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6A219-D776-4544-97A5-3B4C6C29D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C6BD6-A421-4ACB-B20D-96FC09AEA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6109-5CE5-4DC0-8095-B3AB0B259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71A2-BAA5-46B0-8031-0B37949D8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3CD0-F679-4A3D-82B6-5883893C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88EB-2DA9-4E41-AB67-59F0CF55B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757D-83ED-4D22-B3EF-C21CFD7E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3319-BF9C-41DE-BD48-9EECEC8D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EC80-9328-489A-94E7-EA3A874D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AD3A3-3273-48BA-8C57-C96C072635A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18C0D-CE8A-4A00-93CD-5CCF624FA10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he 3 C’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sented by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sert Group Names He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09120" y="182880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wo teachers are sitting in the teachers’ lounge during their conference period and having a powerful discussion on a new Special Education student in their classrooms who has moved in from another district and is presenting behavior 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irst grade team plans a unit around Dr. Seuss with the common expectation that students will orally report on their favorite Dr Seuss book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h teachers discussing how Math is taught across the traditional structural boundaries of grade level and subject matter with a common goal of improving number sense in all students at the schoo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601640" y="533520"/>
            <a:ext cx="57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you ever felt alone as a teac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666880" y="990720"/>
            <a:ext cx="38862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3 C’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oper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sic level of intellectual interaction among teach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es not require teachers to share valu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bedded video on this sli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3 C’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llegial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utual learning and discussion of classroom pract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scussion of student performa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are lesson pla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 aid in providing consistent expect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llegi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523880" y="2362320"/>
            <a:ext cx="5791320" cy="30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3 C’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llabor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tual decision making to resolve problems of pract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lationships built around communal experience and interests of all school memb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st focus on student learn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Build Collabo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udents are exposed to how things wor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udents’ work is tied to meaningful activit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mbers choose to particip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ally!!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ust include all members of the faculty and staff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ime must be set asi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ff must have support and encouragement to become sta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8T04:01:25Z</dcterms:created>
  <dc:creator>Paul Pabian</dc:creator>
  <dc:description/>
  <dc:language>en-US</dc:language>
  <cp:lastModifiedBy>Paul Pabian</cp:lastModifiedBy>
  <dcterms:modified xsi:type="dcterms:W3CDTF">2007-02-05T03:25:54Z</dcterms:modified>
  <cp:revision>4</cp:revision>
  <dc:subject/>
  <dc:title>The 3 C’s</dc:title>
</cp:coreProperties>
</file>